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535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9CB1-E433-46F9-9045-0F86BC48F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BC84-9AD8-4136-8500-6463BDC64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3301-77A0-482B-AF1D-B77056E6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DD80-538D-426C-9143-80223A239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E765-5B08-4E4C-A9A8-352DF6EBA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242D-E391-4DEB-ACF8-F22AD7F63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9D7F-4C55-4CD1-BFBC-6BFD15405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43BF-8068-448A-B82E-8AD722423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2840" y="289080"/>
            <a:ext cx="83628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B739-827C-42E1-9E5E-071DAA2E4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4FD3-92B0-44A5-8061-AC02FA9B2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AD2C-BDCB-4EF5-B8C8-67E37BE6E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7FB2-CCF0-4E52-83B5-3FB861895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2840" y="289080"/>
            <a:ext cx="83628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F51A-75B6-46AF-96E4-C3435CF43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7588-410B-40CA-A69D-768E4B857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77C2-7595-46D3-9D59-B49A32221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36FC-C50F-493A-97B4-25670B656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1052640"/>
            <a:ext cx="9144000" cy="5329080"/>
          </a:xfrm>
          <a:prstGeom prst="rect">
            <a:avLst/>
          </a:prstGeom>
          <a:solidFill>
            <a:srgbClr val="215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53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d9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86640" y="6021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8be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4813-B634-48E5-972D-B68A54717B15}" type="slidenum">
              <a:rPr b="0" lang="en-US" sz="1400" spc="-1" strike="noStrike">
                <a:solidFill>
                  <a:srgbClr val="88beb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10"/>
          <p:cNvGrpSpPr/>
          <p:nvPr/>
        </p:nvGrpSpPr>
        <p:grpSpPr>
          <a:xfrm>
            <a:off x="0" y="6308640"/>
            <a:ext cx="9144000" cy="563760"/>
            <a:chOff x="0" y="6308640"/>
            <a:chExt cx="9144000" cy="563760"/>
          </a:xfrm>
        </p:grpSpPr>
        <p:pic>
          <p:nvPicPr>
            <p:cNvPr id="5" name="Picture 11" descr="UOWbanner-black_Small"/>
            <p:cNvPicPr/>
            <p:nvPr/>
          </p:nvPicPr>
          <p:blipFill>
            <a:blip r:embed="rId2"/>
            <a:srcRect l="46505" t="0" r="0" b="0"/>
            <a:stretch/>
          </p:blipFill>
          <p:spPr>
            <a:xfrm>
              <a:off x="5508720" y="6308640"/>
              <a:ext cx="36352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12"/>
            <p:cNvSpPr/>
            <p:nvPr/>
          </p:nvSpPr>
          <p:spPr>
            <a:xfrm>
              <a:off x="0" y="6308640"/>
              <a:ext cx="5867280" cy="5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Picture 15" descr="Lib-logo-black-X-Small"/>
          <p:cNvPicPr/>
          <p:nvPr/>
        </p:nvPicPr>
        <p:blipFill>
          <a:blip r:embed="rId3"/>
          <a:stretch/>
        </p:blipFill>
        <p:spPr>
          <a:xfrm>
            <a:off x="7885080" y="115920"/>
            <a:ext cx="1076400" cy="8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052640"/>
            <a:ext cx="9144000" cy="5329080"/>
          </a:xfrm>
          <a:prstGeom prst="rect">
            <a:avLst/>
          </a:prstGeom>
          <a:solidFill>
            <a:srgbClr val="215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0" y="6308640"/>
            <a:ext cx="9144000" cy="563760"/>
            <a:chOff x="0" y="6308640"/>
            <a:chExt cx="9144000" cy="563760"/>
          </a:xfrm>
        </p:grpSpPr>
        <p:pic>
          <p:nvPicPr>
            <p:cNvPr id="46" name="Picture 12" descr="UOWbanner-black_Small"/>
            <p:cNvPicPr/>
            <p:nvPr/>
          </p:nvPicPr>
          <p:blipFill>
            <a:blip r:embed="rId2"/>
            <a:srcRect l="46505" t="0" r="0" b="0"/>
            <a:stretch/>
          </p:blipFill>
          <p:spPr>
            <a:xfrm>
              <a:off x="5508720" y="6308640"/>
              <a:ext cx="36352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13"/>
            <p:cNvSpPr/>
            <p:nvPr/>
          </p:nvSpPr>
          <p:spPr>
            <a:xfrm>
              <a:off x="0" y="6308640"/>
              <a:ext cx="5867280" cy="54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15" descr="Lib-logo-black-X-Small"/>
          <p:cNvPicPr/>
          <p:nvPr/>
        </p:nvPicPr>
        <p:blipFill>
          <a:blip r:embed="rId3"/>
          <a:stretch/>
        </p:blipFill>
        <p:spPr>
          <a:xfrm>
            <a:off x="7885080" y="115920"/>
            <a:ext cx="1076400" cy="885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535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d9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d9d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lynda_cooper@uow.edu.a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Arial"/>
              </a:rPr>
              <a:t>StartSmart</a:t>
            </a:r>
            <a:endParaRPr b="0" lang="en-US" sz="48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20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ecff"/>
                </a:solidFill>
                <a:latin typeface="Arial"/>
              </a:rPr>
              <a:t>Essential Academic Information Skill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  <p:pic>
        <p:nvPicPr>
          <p:cNvPr id="96" name="Picture 7" descr="GirlinLibrary"/>
          <p:cNvPicPr/>
          <p:nvPr/>
        </p:nvPicPr>
        <p:blipFill>
          <a:blip r:embed="rId1"/>
          <a:stretch/>
        </p:blipFill>
        <p:spPr>
          <a:xfrm>
            <a:off x="2268360" y="3429000"/>
            <a:ext cx="4824720" cy="25066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0" y="0"/>
            <a:ext cx="7020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d5352"/>
                </a:solidFill>
                <a:latin typeface="Arial"/>
              </a:rPr>
              <a:t>Enhancing the Student Experience for Transitioning Stud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d5352"/>
                </a:solidFill>
                <a:latin typeface="Arial"/>
              </a:rPr>
              <a:t>Future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9036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72d9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72d9dc"/>
                </a:solidFill>
                <a:latin typeface="Arial"/>
              </a:rPr>
              <a:t>Team was nominated for and won Vice Chancellor’s award</a:t>
            </a:r>
            <a:endParaRPr b="0" lang="en-US" sz="24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72d9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72d9dc"/>
                </a:solidFill>
                <a:latin typeface="Arial"/>
              </a:rPr>
              <a:t>Currently applying for an ALTC Citation</a:t>
            </a:r>
            <a:endParaRPr b="0" lang="en-US" sz="24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72d9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72d9dc"/>
                </a:solidFill>
                <a:latin typeface="Arial"/>
              </a:rPr>
              <a:t>Regular reviews will be conducted</a:t>
            </a:r>
            <a:endParaRPr b="0" lang="en-US" sz="24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72d9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72d9dc"/>
                </a:solidFill>
                <a:latin typeface="Arial"/>
              </a:rPr>
              <a:t>Survey students every two years</a:t>
            </a:r>
            <a:endParaRPr b="0" lang="en-US" sz="24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72d9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72d9dc"/>
                </a:solidFill>
                <a:latin typeface="Arial"/>
              </a:rPr>
              <a:t>Keep in regular contact with teacher librarians</a:t>
            </a:r>
            <a:endParaRPr b="0" lang="en-US" sz="2400" spc="-1" strike="noStrike">
              <a:solidFill>
                <a:srgbClr val="72d9d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d9dc"/>
              </a:solidFill>
              <a:latin typeface="Arial"/>
            </a:endParaRPr>
          </a:p>
        </p:txBody>
      </p:sp>
      <p:pic>
        <p:nvPicPr>
          <p:cNvPr id="117" name="Picture 4" descr="StartsmartSmall"/>
          <p:cNvPicPr/>
          <p:nvPr/>
        </p:nvPicPr>
        <p:blipFill>
          <a:blip r:embed="rId1"/>
          <a:stretch/>
        </p:blipFill>
        <p:spPr>
          <a:xfrm>
            <a:off x="6443640" y="2781360"/>
            <a:ext cx="17146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ynda Cooper</a:t>
            </a:r>
            <a:endParaRPr b="0" lang="en-US" sz="2800" spc="-1" strike="noStrike">
              <a:solidFill>
                <a:srgbClr val="72d9d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aison Services Manager</a:t>
            </a:r>
            <a:endParaRPr b="0" lang="en-US" sz="2800" spc="-1" strike="noStrike">
              <a:solidFill>
                <a:srgbClr val="72d9d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University of Wollongong Library</a:t>
            </a:r>
            <a:endParaRPr b="0" lang="en-US" sz="2800" spc="-1" strike="noStrike">
              <a:solidFill>
                <a:srgbClr val="72d9d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d9d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ct details</a:t>
            </a:r>
            <a:endParaRPr b="0" lang="en-US" sz="2800" spc="-1" strike="noStrike">
              <a:solidFill>
                <a:srgbClr val="72d9d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ynda_cooper@uow.edu.a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phone: 02 4221 3544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x: 02 4221 466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: University Library, Building 16, Wollongong Campus</a:t>
            </a:r>
            <a:endParaRPr b="0" lang="en-US" sz="28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d5352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reat to current program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sufficient rigour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dent needs had changed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oogle main search tool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confidence levels in skills abilities 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d5352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268280"/>
            <a:ext cx="9144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search project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urvey of new students and Teacher Librarian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minar for Teacher Librarian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dent focus group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d5352"/>
                </a:solidFill>
                <a:latin typeface="Arial"/>
              </a:rPr>
              <a:t>Support for academics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d9d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focuses on: 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Outline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, scholarly resource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knowledgement of ideas and work of other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OW Graduate Qualities 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d5352"/>
                </a:solidFill>
                <a:latin typeface="Arial"/>
              </a:rPr>
              <a:t>Support for students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to academic culture at UOW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 of academic resources 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to find and use relevant resource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iarity with academic integrity at UOW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of correctly referencing source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d5352"/>
                </a:solidFill>
                <a:latin typeface="Arial"/>
              </a:rPr>
              <a:t>Learning Design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our guide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earning outcomes articulated and linked to assessment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ractive objects to engage learning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actice exercises that mimic quiz question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rcRect l="0" t="16363" r="3661" b="10797"/>
          <a:stretch/>
        </p:blipFill>
        <p:spPr>
          <a:xfrm>
            <a:off x="0" y="1052640"/>
            <a:ext cx="9144000" cy="5256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0" y="26028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2d5352"/>
                </a:solidFill>
                <a:latin typeface="Arial"/>
              </a:rPr>
              <a:t>Guide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d5352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mpulsory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ertificate of Achievement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reater rigour with randomised questions and answers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sted on the Moodle platform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eedback provided</a:t>
            </a: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d9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840" y="2890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2d5352"/>
                </a:solidFill>
                <a:latin typeface="Arial"/>
              </a:rPr>
              <a:t>Quiz question example</a:t>
            </a:r>
            <a:endParaRPr b="0" lang="en-US" sz="4400" spc="-1" strike="noStrike">
              <a:solidFill>
                <a:srgbClr val="2d535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341000"/>
            <a:ext cx="8229600" cy="478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rcRect l="0" t="22269" r="6249" b="12766"/>
          <a:stretch/>
        </p:blipFill>
        <p:spPr>
          <a:xfrm>
            <a:off x="0" y="1052640"/>
            <a:ext cx="91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6:31:14Z</dcterms:created>
  <dc:creator>Ainsley Lynch</dc:creator>
  <dc:description/>
  <dc:language>en-US</dc:language>
  <cp:lastModifiedBy>Lynda Cooper</cp:lastModifiedBy>
  <dcterms:modified xsi:type="dcterms:W3CDTF">2011-04-01T06:14:36Z</dcterms:modified>
  <cp:revision>79</cp:revision>
  <dc:subject/>
  <dc:title>Slide 1</dc:title>
</cp:coreProperties>
</file>