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3D5A-D08C-47F9-9495-55F8DFCB4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94C-A48F-480B-806B-0C027DBB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199-973D-422C-872F-253A9121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80F-9622-4901-92E8-7910B052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E35-C9B5-499C-B206-192CA108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2ED-948C-4BAB-9857-8B5CB21E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E03-A8F7-4614-8EE5-0D42E91F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F36-6FF9-49A9-AB70-D3B77414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60A-7D2A-4EF0-8A6D-27C4B424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0D1-AF72-4657-B3B4-2DF872D5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2A5-FB2D-4E76-A9B8-A8AE98F0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6DB-C41A-4BD3-A824-15AAB258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790-52B3-4FAE-B9AA-5BC48D9F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EFFD-A8CA-41EF-AA72-77B121223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5640" y="1557000"/>
            <a:ext cx="7086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The University of Wollongong Library Professional Cadetship Experi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3860640"/>
            <a:ext cx="7086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ccff"/>
                </a:solidFill>
                <a:latin typeface="Arial"/>
              </a:rPr>
              <a:t>Developing the skills for a career in libraria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becca D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06440" y="1628640"/>
            <a:ext cx="5426280" cy="4467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Ode to the cadet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5800" y="1557360"/>
            <a:ext cx="6046920" cy="4368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Where to from her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The cadetship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3 year t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Placement in each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Progressive building of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Placement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380988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99ccff"/>
                </a:solidFill>
                <a:latin typeface="Arial"/>
              </a:rPr>
              <a:t>L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99ccff"/>
                </a:solidFill>
                <a:latin typeface="Arial"/>
              </a:rPr>
              <a:t>Journal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99ccff"/>
                </a:solidFill>
                <a:latin typeface="Arial"/>
              </a:rPr>
              <a:t>Collec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99ccff"/>
                </a:solidFill>
                <a:latin typeface="Arial"/>
              </a:rPr>
              <a:t>I&amp;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99ccff"/>
                </a:solidFill>
                <a:latin typeface="Arial"/>
              </a:rPr>
              <a:t>Planning &amp;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99ccff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24360" y="1773360"/>
            <a:ext cx="410220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Lending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Circ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E-rea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Re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809880" cy="34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A ‘Responsibility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Ownership of a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Hand over to second cad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248000" cy="35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Journal access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Document deli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Journals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E-jour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24360" y="1773360"/>
            <a:ext cx="453528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Study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Directed by UOW Study Time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Supports cadet’s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380988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DIY Monthl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Just ad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1 cad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1 superv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1 coordin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1 Development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99ccff"/>
                </a:solidFill>
                <a:latin typeface="Arial"/>
              </a:rPr>
              <a:t>1 Reflection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cc00"/>
                </a:solidFill>
                <a:latin typeface="Arial"/>
              </a:rPr>
              <a:t>My monthl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99ccff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ccff"/>
                </a:solidFill>
                <a:latin typeface="Arial"/>
              </a:rPr>
              <a:t>Goals an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99ccff"/>
                </a:solidFill>
                <a:latin typeface="Arial"/>
              </a:rPr>
              <a:t>Pers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ccff"/>
                </a:solidFill>
                <a:latin typeface="Arial"/>
              </a:rPr>
              <a:t>Strengths and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240360" cy="382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3:31:30Z</dcterms:created>
  <dc:creator>collett</dc:creator>
  <dc:description/>
  <dc:language>en-US</dc:language>
  <cp:lastModifiedBy>rdaly</cp:lastModifiedBy>
  <dcterms:modified xsi:type="dcterms:W3CDTF">2007-11-18T22:05:03Z</dcterms:modified>
  <cp:revision>85</cp:revision>
  <dc:subject/>
  <dc:title>Slide 1</dc:title>
</cp:coreProperties>
</file>